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155BD-BCE3-4EF0-BDBB-70D7A33ADF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EBC0C-CA89-4A18-BB6F-A8724A4765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F7D25-2412-44CF-B4F0-753CDB185B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739A0-E23C-445C-90E8-10B5D228A5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E342E-9A77-4E39-BEC3-EB7BC2DEAD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041B1-DF7D-4D44-8BC4-F5555CF761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C128A-BACE-4B6B-918D-B197658812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EC405-6C12-4CE2-8C10-6E8A052DA1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7E9D3-B292-4C96-A161-F4149166EF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27674-452A-4FA1-A5C8-AA685EAD27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17F65-DAB1-4666-8C35-E639B431B2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D43D1-7F8B-4FE8-8DD7-31DF378205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FAAAE-8938-495E-BB3D-20AEBE2ADA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81710-5479-4541-9745-8E30E4543B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710BB-830B-4271-949E-FFABB0AEFB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77596-5DE9-403D-86ED-BEAEC91986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15A7D-BE8F-492D-8F2C-C055623F9D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D94C9-5371-4974-9A51-44AB6BF111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DA859-26AF-4676-B05F-1AB31A39BC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DBB84-08FE-4CC8-A147-B105A280A0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9F317-3E1C-4F1B-BE5D-36661910B3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FB402-5AC4-47A0-A5A8-B8D80F851A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89FD6-4FBE-4FDF-9241-B7CAD894BF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B21E2-F258-4A9E-A73E-3D5047B004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192A-8753-4937-9BE1-BD8603124D1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E4A1-22D0-49ED-998F-B6DCE87AAB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2A31-ED9C-48BA-AA64-2E91296E8FF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 Fi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 W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Name Card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Go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your goal for Math CAMPP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84EF-3B6C-43AB-B2F5-DD6109E0656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our Corner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FC57-FA23-4B6A-8B8A-17DB700AA6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onograph #1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a community of lear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ence 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9A28-C920-4ABD-A4CC-423A59FDC23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York Region District Schoolboard</cp:lastModifiedBy>
  <dcterms:modified xsi:type="dcterms:W3CDTF">2011-08-01T16:34:45Z</dcterms:modified>
  <cp:revision>7</cp:revision>
  <dc:subject/>
  <dc:title>&lt;Title&gt;</dc:title>
</cp:coreProperties>
</file>